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6D8DC-FDF0-4B4B-AE63-5AB1776D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7D487-F758-42B5-A228-1DAAED41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A1B40-1128-40E4-B6C5-B83BE3F9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01F89-9806-4F09-AC2B-D1137548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4B3D1-8D31-44F8-BE65-EAA27D5C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85196-3E06-47DD-AE41-BB03807A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F2808-D14B-47FD-A419-F7CB65D5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4E2C9-75E4-4688-AF7C-E7E8A1A0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F6243-014F-4E43-88D2-B91C612F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9151F-CE77-4634-9935-CCCA232E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36150-E024-43C2-B11C-4ACF1DE4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87382-9C73-489E-8727-8E037C95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4D81-297C-4404-A194-A962D940EE6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838080" y="2133720"/>
          <a:ext cx="693432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9343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37040" y="303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1840" y="4266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8560" y="434304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4440" y="251424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un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7360" y="12942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epared by Fried Augenbro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9320" y="1981080"/>
          <a:ext cx="2809800" cy="14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981080"/>
                    <a:ext cx="280980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334120" y="4800600"/>
          <a:ext cx="1962000" cy="163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4800600"/>
                    <a:ext cx="19620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33520" y="1293840"/>
            <a:ext cx="6705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1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is from a non-managed ‘upstream’ structural layout actor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the file describes an analysis model of a simple 2D frame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385440"/>
            <a:ext cx="7619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2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the result of three managed data transactions by Organization 1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import of File 1 with a STEP file im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load data with a CIS/2 Data Management Compliant (DMC) application SoftX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2 with managed data using the SoftX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9720" y="357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352680" y="3352680"/>
          <a:ext cx="2028960" cy="138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3352680"/>
                    <a:ext cx="202896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1286640"/>
            <a:ext cx="792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3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contains the result of three managed data transactions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new data: cross-sections of the two columns and the beam. This is done with the DMC application Soft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modifications of the imported analysis model to allow the inclusion of the element cross section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3 with managed data using the SoftY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93640" y="41796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Eastman</cp:lastModifiedBy>
  <dcterms:modified xsi:type="dcterms:W3CDTF">2001-10-31T03:41:38Z</dcterms:modified>
  <cp:revision>5</cp:revision>
  <dc:subject/>
  <dc:title>No Slide Title</dc:title>
</cp:coreProperties>
</file>